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38D-D57B-420C-B5BA-1F9A6A5E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501-78DD-4F7D-8266-05196E8D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94A-A432-4CD5-B271-E11908ED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D2E-95E5-47E4-B423-53FCCB0D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E49-5C9D-4AB9-89E4-74FC6C96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A955-E751-46CB-9580-AD5131A9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4F24-9D92-4E60-8C4D-B0BA7997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2A2B-7D44-4121-8212-CEF8E3D6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6E8A-BA78-4FEE-A3FE-1055E3F6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FB51-2FE8-4B81-9C87-3A5B4B9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B68B-AF11-4C88-80AF-A339335E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7C6-C666-4175-A789-9740FB4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2522-E383-461C-AB7C-A89597C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69E0-AE9A-4D68-B107-78FC644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81B-184E-4E1F-B422-F3E4C33C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1FC1-C6A3-4DEB-BCE9-F6AFFA5D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488-5D56-4F42-9E53-52C80C00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3F1-17E7-47C5-AB88-90E98B9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D7D-77B3-4996-9D25-F8ACEE97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C09-55BE-4170-9EDD-D2886DAF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098-D853-466C-86FF-A24D8E68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608-75F1-48AA-ABFE-FAAFBFE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E62-99D8-46F1-AE28-41A929A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022-80B7-42A9-B0A6-8297998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FE13-513E-410A-B17B-50CE2B197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154A-BB6C-41BB-AB81-C620012A0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a Manu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fic Communication, Week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a Manu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goal of this manuscrip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participated in the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the best team member to draft each 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a Manu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ight jour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find the right jour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urnal impa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a Manu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s for auth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http://jamia.bmj.com/site/about/guidelines.x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icle Types /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or Unstructured Abs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a Manu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form Requirements for Authorsh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.g., http://www.icmje.org/ethical_1author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horship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stantial contributions to conception, design, data acquisition or analys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fting or revising manuscript for important 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approval of the version to be publi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persons designated as authors should qualify, and all who qualify should be lis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a Manu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ethods Inf Med. 2006;45(1):1-3. On exemplary scientific conduct regarding submission of manuscripts to biomedical informatics journals. Miller RA, Groth T, Hasman A, Safran C, Shortliffe EH, Haux R, McCray 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urrent duplicate sub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ially unaltered sub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ially minimally altered repub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plagiar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disclosure of Conflicts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a Manu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mission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forma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revie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review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veness to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ominik Aronsky</dc:creator>
  <dc:description/>
  <dc:language>en-US</dc:language>
  <cp:lastModifiedBy>Trent Rosenbloom</cp:lastModifiedBy>
  <dcterms:modified xsi:type="dcterms:W3CDTF">2011-09-26T16:39:12Z</dcterms:modified>
  <cp:revision>38</cp:revision>
  <dc:subject/>
  <dc:title>PowerPoint Presentation</dc:title>
</cp:coreProperties>
</file>